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laser.wav" ContentType="audio/x-wav"/>
  <Override PartName="/ppt/media/image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6A35-29FB-4AAC-A88A-B169E2E1A8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Mr. Armstr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Mr. Arm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??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1936, 7,830 hike completions have been recorded by A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,000-Milers By Dec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0-193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0-194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50-195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60-196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0-197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4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0-198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4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0-199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,24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0-presen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,361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1936, 7,830 hike completions have been recorded by A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000-Milers By Dec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-193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0-19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50-195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0-196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0-197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0-198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4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0-199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2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0-pres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61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5 W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5 W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Appalachian Trai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 is a continuous marked footpath that goes from Katahdin in Maine to Springer Mountain in Georgia, a distance of about 2160 mil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ppalachian Tr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 is a continuous marked footpath that goes from Katahdin in Maine to Springer Mountain in Georgia, a distance of about 2160 mi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 Ques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walked 10 miles a day, how many days would it take you to complete the Appalachian Trai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nt: The trail is 2160 miles lo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lked 10 miles a day, how many days would it take you to complete the Appalachian Tr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The trail is 216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walked 10 miles a day, it would take you 216 days or 7.2 months to complete the Appalachian Trail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lked 10 miles a day, it would take you 216 days or 7.2 months to complete the Appalachian Tra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 was the "brainchild" of Benton MacKaye, educated as a forester, who proposed connecting thread of already existing trail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1 he published his ide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 was the "brainchild" of Benton MacKaye, educated as a forester, who proposed connecting thread of already existing trai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he published his id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ugust 14, 1937, the Appalachian Trail became a rea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8, however, the trail was no longer continuous. A hurricane destroyed much of it in New Engla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erson to walk the whole trail or do a “thru hike” was Earl Shaff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ugust 14, 1937, the Appalachian Trail became a re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8, however, the trail was no longer continuous. A hurricane destroyed much of it in New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erson to walk the whole trail or do a “thru hike” was Earl Sha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and 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Trails System Act, adopted late in 1968, made for a series of "national scenic trails" within the national park and forest syst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 was the first trail to fall under this Ac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nd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Trails System Act, adopted late in 1968, made for a series of "national scenic trails" within the national park and forest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 was the first trail to fall under this A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1DF1-14E3-459E-BE5E-D6DE6BB6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1A49-EBD0-4D3B-BE58-B59A5AB5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B11B-29E0-49C6-963C-119ABF92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44B5-17F0-4277-8A68-16F7F51B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0B2BC-95F5-450A-BAB8-65BA5FBA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B72FA-2B06-4A56-855A-1A21C18F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6DDD9-AC70-4A34-9201-48887BFA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5778F-705B-4CF6-9112-2E80F2FC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B17D3-A60C-48F5-A80B-5CF0B50B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7ABD3-511D-4201-9563-AB3447F7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3B8A3-0C34-496C-8720-A978D2A9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194-B1AF-4D31-AFDB-7308110C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2EEC8-A70D-4511-A1E7-EB9C5412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1D57D-79DD-46E3-AF81-434A84AA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033D1-0BA5-47FB-BE63-96AD1BA2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5FA70-188D-475B-8EAB-9A7FCADF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9456D-18FB-4FF5-97B8-4B2DD07D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2E1E-4948-44D3-920F-D56AF3E7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8857-9B8F-4BD6-AB37-A6CE7E26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1198-96CB-4979-BF3E-70999133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B842-DBD7-465F-981D-6594A51D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5F82-C503-4EBC-AB21-035C16D7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FEFB-9076-4863-B3A3-C6C51F90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F0BF-8B39-4136-9330-5ABDB927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A883-2F24-40F7-A08F-003C19EA87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5414-57DC-4807-9115-92931C00E7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ps.gov/nts/legislation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 Appalachian Trail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Mr. Armst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Many???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1936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,830 hike comple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ve been recorded by A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,000-Milers By Dec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30-193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0-194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50-195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0-196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70-197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80-198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4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90-19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,24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0-pres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,361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7" descr="catrock3"/>
          <p:cNvPicPr/>
          <p:nvPr/>
        </p:nvPicPr>
        <p:blipFill>
          <a:blip r:embed="rId1"/>
          <a:stretch/>
        </p:blipFill>
        <p:spPr>
          <a:xfrm>
            <a:off x="2057400" y="1219320"/>
            <a:ext cx="4800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appalachian_trail_cling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gardenpath"/>
          <p:cNvPicPr/>
          <p:nvPr/>
        </p:nvPicPr>
        <p:blipFill>
          <a:blip r:embed="rId1"/>
          <a:stretch/>
        </p:blipFill>
        <p:spPr>
          <a:xfrm>
            <a:off x="2166840" y="0"/>
            <a:ext cx="4867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01580"/>
          <p:cNvPicPr/>
          <p:nvPr/>
        </p:nvPicPr>
        <p:blipFill>
          <a:blip r:embed="rId1"/>
          <a:stretch/>
        </p:blipFill>
        <p:spPr>
          <a:xfrm>
            <a:off x="457200" y="558720"/>
            <a:ext cx="82296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8" descr="ctsr2ezg[1]"/>
          <p:cNvPicPr/>
          <p:nvPr/>
        </p:nvPicPr>
        <p:blipFill>
          <a:blip r:embed="rId1"/>
          <a:stretch/>
        </p:blipFill>
        <p:spPr>
          <a:xfrm>
            <a:off x="2971800" y="1828800"/>
            <a:ext cx="3322800" cy="34923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5 W’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The Appalachian Trail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ppalachian Tra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continuous marked footpath that goes from Katahdin in Maine to Springer Mountain in Georgia, a distance of about 2160 mil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th Ques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alked 10 miles a day, how many days would it take you to complete the Appalachian Trai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nt: The trail is 2160 miles l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2" descr="j0286034"/>
          <p:cNvPicPr/>
          <p:nvPr/>
        </p:nvPicPr>
        <p:blipFill>
          <a:blip r:embed="rId1"/>
          <a:stretch/>
        </p:blipFill>
        <p:spPr>
          <a:xfrm>
            <a:off x="6705720" y="38088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j0286034"/>
          <p:cNvPicPr/>
          <p:nvPr/>
        </p:nvPicPr>
        <p:blipFill>
          <a:blip r:embed="rId2"/>
          <a:stretch/>
        </p:blipFill>
        <p:spPr>
          <a:xfrm>
            <a:off x="1523880" y="380880"/>
            <a:ext cx="919440" cy="8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alked 10 miles a day, it would take you 216 days or 7.2 months to complete the Appalachian Trai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j0297551"/>
          <p:cNvPicPr/>
          <p:nvPr/>
        </p:nvPicPr>
        <p:blipFill>
          <a:blip r:embed="rId1"/>
          <a:stretch/>
        </p:blipFill>
        <p:spPr>
          <a:xfrm>
            <a:off x="6796080" y="2895480"/>
            <a:ext cx="23479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e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Picture 5" descr="at-map"/>
          <p:cNvPicPr/>
          <p:nvPr/>
        </p:nvPicPr>
        <p:blipFill>
          <a:blip r:embed="rId1"/>
          <a:stretch/>
        </p:blipFill>
        <p:spPr>
          <a:xfrm>
            <a:off x="2057400" y="1143000"/>
            <a:ext cx="5334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o &amp; Wh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palachian Trail was the "brainchild" of Benton MacKaye, educated as a forester, who proposed connecting thread of already existing trail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1 he published his id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o &amp; Wh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August 14, 1937, the Appalachian Trail became a re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8, however, the trail was no longer continuous. A hurricane destroyed much of it in New Eng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person to walk the whole trail or do a “thru hike” was Earl Shaff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o and Wh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National Trails System A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dopted late in 1968, made for a series of "national scenic trails" within the national park and forest syst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palachian Trail was the first trail to fall under this Ac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20:06:50Z</dcterms:created>
  <dc:creator>Earl F. Armstrong Jr.</dc:creator>
  <dc:description/>
  <dc:language>en-US</dc:language>
  <cp:lastModifiedBy>RomaK</cp:lastModifiedBy>
  <dcterms:modified xsi:type="dcterms:W3CDTF">2015-09-04T09:45:29Z</dcterms:modified>
  <cp:revision>12</cp:revision>
  <dc:subject/>
  <dc:title>The Appalachian Trail </dc:title>
</cp:coreProperties>
</file>